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to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ABF2-268C-4829-A11C-432BF21FD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3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DF5C-7766-4FAF-87A0-DC804F7041A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3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9C89-1164-46E0-85DC-4DD4BF688B6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0BFA-8EAF-48A7-82B2-8EB4CD8D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63F0-AE29-4F0C-8639-864D0FD7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B381F-F344-4707-8E45-7DAC9B19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6F032-2007-4BD4-9C40-47386C1C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1BB1D-6534-4CC2-941A-1CEEB61B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9079F-19A3-46AA-B6D7-1EEF7726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4E372-3616-4526-967D-48726BA1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F4E4A-6175-4D12-9DB0-5AADFBA0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8D905-6023-46A0-906C-BCBFA3C8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86037-F8B6-4A72-9341-900CE780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E13CD-B09D-4BE6-B72C-05D757C6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0FFCE-22B6-48A6-A09A-CB4F9AC3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D28B-B4E3-40F0-A490-4DD45EBA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EDF9A-106D-4E35-936B-91EA9C23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64C32-17AC-4F2A-8152-4C818C06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F179E-6CA9-4B4B-A641-BB12CDF5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E60C0-B6D3-4611-A20F-16B5317B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90BF3-65E0-4F1C-BAFE-0CF876D8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D1CC2-C4F0-4C65-871F-A25D2199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98CE8-6B5F-441F-A4B3-E3722C55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C67FA-9106-40E5-B8C7-69E05549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2B50B-6AED-4C91-913D-237498AE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B8D2D-D6BA-4623-AEB0-1475F7A5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85D3-367E-43DE-8121-9DEE611F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C434D-0721-451B-8854-2B6787BC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32059-F0B1-4ADB-826D-5AD0A0A6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07BD2-3EE5-40B6-B3D4-B6D70F89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24E88-4093-4766-9946-D91A156F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ADCB2-B876-4DD8-B1FD-FB5AC087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514A4-0CB1-49A1-9DF0-E8BB8111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9C16F-6A6D-445D-A824-4611F485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730EC-93BC-4401-B262-64F2DBEE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0B8CE-6746-499F-B87A-EDD5AA81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22455-F55E-467D-8FF5-7F17B5AB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40BD-6C3C-4C3C-917E-0FD1736A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CDE46-C396-4F94-80BA-012B9BBF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E07A7-49DC-4BBA-B313-7A9FCF42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8860F-6C99-405C-9566-4D9BAEA8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E126D-8FCC-4A60-BB9A-9ABB8B36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C3DB5-BA07-4881-80F3-B1B1660A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A775F-6F3E-4E37-8C0F-068DC471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A5288-7FDC-4AB3-AEEB-6AF1397E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B31FD-9C2D-440B-9923-7836D846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F7FBA-7435-4900-927E-4091BBA8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7B0EA-3678-4A24-BB54-6AAE9685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85E2-005B-4718-ACFF-E6082392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B2E37-761E-4B35-8914-59927346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8CC7B-736E-4977-85E5-598025CC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A381B-FD0F-4E10-97ED-5C03D53A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A2EF0-4BA9-4DE7-B49E-F04186C8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4D92A-2375-4A8B-87A5-49311777E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33CE-1E32-436E-9DB0-D88B2033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BD25-CBD6-4DF3-89AB-D756BAAC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8963-6B55-4011-BF50-09BDD9CA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8042-C409-4456-AD2A-414A4F8B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4408-8472-4551-B9BE-80AD65F1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02CD-145C-416B-9D35-C56D2700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3B0A-3A65-45A9-898D-A4C38CFE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F32E-251C-4281-8D9B-1021209C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B9E4-C35C-4246-990B-A6BC03F5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2C2F-2E9F-4350-9594-ABEBD105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DE0B-B392-4D60-A4A0-DAC94B82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5C165-639B-4AFF-B988-86911880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50076-8766-4DB1-BDFA-ED53EF31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750C4-59A0-4B8F-BE69-3F263E42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E2B40-36AD-48BF-A809-73B9D772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C7245-8317-4FFF-9117-2D6D3ED6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36B5-9061-4E0E-B500-B05132D4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AA3F8-7228-4813-BDD5-E351C067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9BB43-0540-4DF7-9AD1-ECA529B4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F9B9C-20AB-42B2-B4BF-09684466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66ED0-9148-47B7-B177-7078E015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AE978-1A81-40C5-AEA0-F644DC9A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260B5-2251-4433-8255-46309DC7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3A868-BEC6-485F-95DC-21B56F08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E2AA3-A436-47F9-9FDE-A52E18BE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D3722-E55D-4022-AC6C-29824B21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C7AC5-5A38-4282-8CF0-FDC24A3F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075C-74AA-4144-BDD0-80DC6AE1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3D267-30CB-408F-A857-1498883A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56D08-4F8C-411D-9E8C-1ECAFCAC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24BD5-CECF-4E78-BF8C-ED157C3F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9D603-66BE-4AC2-9AB5-2EF83D21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30417-95C3-4FFE-A888-682C1501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E9131-AEEA-44A5-9F78-C6C81577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9B3D9-EF1F-4C1F-9696-96FCDB53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A5B54-5601-4FCA-8A69-DF1FEBE2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FE781-9E0C-4085-AA7B-5B91298E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41DB7-8A64-461B-8AE9-6CC806C5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51A8-B174-4013-9431-C0B7D130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FAA73-6864-4020-8B41-2463612C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EACEB-B64F-4C34-A10E-17031E3D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69E8A-AB9D-4878-A749-B7D2CE61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9FDB7-02FF-48C9-914D-9C8A5E50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E03B4-E389-4013-8397-DFA51621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AA4C1-A80A-4A9B-9ED8-EA74840C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6FEF5-2C4F-4883-8FDA-630962FB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E8176-C2A0-4C21-A7A3-D6F11DF8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D885C-BF06-4259-9FBF-F4F26568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13CFF-9E8A-4757-8B4E-606019B4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213E-E3A6-4C72-95D4-2676038E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8B092-03B8-4F20-B8CA-5265EDAC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E3E44-7553-44C1-A627-F0817E98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DA3CC-B934-4D10-B090-08798837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FA899-C77C-45AC-A8A3-52C845F3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5373A-D0A1-4FFB-BCFE-E79DEC7F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C5885-2EA6-4663-8F91-598076A8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8B19A-079A-467A-8BB7-12454860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68D7E-5582-4C0C-B124-DBF9692A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6DA81-BF2F-4185-A4BD-D310EB18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940E2-6E7E-4C10-811C-86872D43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B508-25CC-41FC-A1A0-1A337932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EF02B-BFEC-443C-A35F-1B935B81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8E3C0-CF03-4A31-ADF6-ECC997A41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99EB8-202B-42E7-AD8B-15C975F7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B52B4-42BA-48B0-950C-CFA4C9B8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B8DDC-5D21-4789-8DCB-6894CFE1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B1E48-34BE-41E9-95EE-C438EDA8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8769C-F0F7-44A2-BDC5-379F1860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136EF-1025-48AE-90D6-037338BA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40F73-024D-4D28-A874-2CF1966D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81E91-E9CE-42D7-8D2E-5AA4681F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D651-985B-4A95-B91F-2C5EC321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217AC-2D00-4AED-AC30-1F1ED149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89610-9DB3-499F-B83F-0E3C2658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C98BB-E547-428C-B2F0-84C48C61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7D5DB-7B50-447F-B3C7-63EB1C48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92F7A-83BF-481E-907D-E368BFBD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9EB01-BB47-4070-9562-2A98F926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ED0C3-9E86-4D5C-9EB3-EED57F83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7A418-37FD-4343-B0A7-736D4668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9041E-756E-435C-B5E5-C85CEE2D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9EF02-A057-4693-87A4-E1D86FE5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1116-B0E1-4B9B-B0E0-F0849E50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177C2-4E82-47DD-ADFE-A9E186CC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8A54C-D0B5-4DB0-A6D2-611BCBF9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545C5-AE28-4F13-973C-B5829701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05B89-4ECE-40CF-AFA4-B5B55CD9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0926C-DAE5-4745-96D0-7A8595C1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431C3-77E6-452D-9CBD-5D0D8AB5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31DDC-0769-4958-8177-B14754C3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0E28C-A976-484F-AF14-87E7424B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E0395-FB2B-4C65-AF3A-B3A1FCA7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D07F5-F8A5-4825-A9F9-5C17EF68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A353-4DF1-40A7-9675-39320828426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85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6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7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8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9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0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1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2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3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4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5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6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7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8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9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0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1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2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3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4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7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8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9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0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1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2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3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5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6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7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8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8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9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D13A-4B74-48DA-99EC-FC6498B8FBF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6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3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3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55D5-9763-4313-9999-19054603C53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3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B887-A639-46A2-A905-59F82E1D8734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FC8B-1813-467A-A394-5B918672277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5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3678-9CDE-4252-BA36-BE3F7CD9543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2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E7E0-AE5E-446A-8A31-31AADF54F3C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05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5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3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4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9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4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5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6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7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8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CC75-B97E-4539-8C32-C636E755BD0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8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758C-4CE4-4F24-9D09-30B3FF09C6E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5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FD11-45A7-4B31-82EC-55BF0928A7C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3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9DBF-B567-4F1C-846A-AB900FE39C7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0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FA4C-BD00-41C4-B995-18C46FDAF65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  <a:ea typeface="Arial"/>
              </a:rPr>
              <a:t>Gospel Order and Rebellion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ow can I prevent rebellion from starting in my hear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  <a:ea typeface="Arial"/>
              </a:rPr>
              <a:t>History Reveals a Pattern of Rebellion against Gospel Order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375840" y="1628640"/>
            <a:ext cx="849636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1 Corinthians 10:6-12 (Romans 15: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65040" indent="-2728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iberation Sans Narrow"/>
              </a:rPr>
              <a:t>Lust</a:t>
            </a: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 – Israel murmured against Moses because of the Manna.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Liberation Sans Narrow"/>
              </a:rPr>
              <a:t>Numbers 11:4-34; Psalm 106:1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365040" indent="-2728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iberation Sans Narrow"/>
              </a:rPr>
              <a:t>Idolatry</a:t>
            </a: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 – Israel worshipped the golden calf when Moses did not return from the mountain. </a:t>
            </a:r>
            <a:r>
              <a:rPr b="0" lang="en-US" sz="1600" spc="-1" strike="noStrike">
                <a:solidFill>
                  <a:srgbClr val="ffffff"/>
                </a:solidFill>
                <a:latin typeface="Liberation Sans Narrow"/>
              </a:rPr>
              <a:t>Exodus 32:4-6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365040" indent="-2728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iberation Sans Narrow"/>
              </a:rPr>
              <a:t>Sexual immorality </a:t>
            </a: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– Israel disregarded the laws given through Moses.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Liberation Sans Narrow"/>
              </a:rPr>
              <a:t>Numbers 25:1-9; Psalms 106:2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365040" indent="-2728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iberation Sans Narrow"/>
              </a:rPr>
              <a:t>Tempting Christ</a:t>
            </a: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 – Israel complained against Moses in Rephidim; the fiery serpents.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Liberation Sans Narrow"/>
              </a:rPr>
              <a:t>Exodus 17:2-7; Numbers 21:4-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365040" indent="-2728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iberation Sans Narrow"/>
              </a:rPr>
              <a:t>Complaining</a:t>
            </a: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 – Israel complained against Aaron and Moses.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Liberation Sans Narrow"/>
              </a:rPr>
              <a:t>Exodus 16:2; Numbers 14:36, 3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Many look back to the Israelites, and marvel at their unbelief and murmuring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feeling that they themselves would not have been so ungrateful;…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Do we well to be thus unbelieving?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Why should we be ungrateful and distrustful?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iberation Sans Narrow"/>
              </a:rPr>
              <a:t>Patriarchs and Prophets, p. 293-29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  <a:ea typeface="Arial"/>
              </a:rPr>
              <a:t>How Did Rebellion Start With Korah?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dbbd71"/>
                </a:solidFill>
                <a:latin typeface="Arial"/>
                <a:ea typeface="Arial"/>
              </a:rPr>
              <a:t>Patriarchs and Prophets, p. 396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744120" y="1599840"/>
            <a:ext cx="7715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A man greatly favored with revelations from Go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He was on the mountain with Mos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He beheld the divine glo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5040" indent="-272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A slight temp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The cause: the judgment of going back to the wildernes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5040" indent="-272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Harboring this temp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Moses did not lead as they wished, so they thought that his commands were inconsist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5040" indent="-272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Whispering discontent to one anoth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They were not sure at first, but others confirmed their vie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5040" indent="-272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Charging complaints upon the leaders of Isra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These were not questions in order to learn, but wicked complai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This was even supported by more. Insinuations were readily received by so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5040" indent="-272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Going furth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Now claiming leadership themselv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5040" indent="-272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Open rebellion against the order of God</a:t>
            </a: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  <a:ea typeface="Arial"/>
              </a:rPr>
              <a:t>On What Ground Did Rebellion Start?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971640" y="1383840"/>
            <a:ext cx="685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Lucif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Not content with his posi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Jealous of anoth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Not being a part of secret counse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The desire to be fir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Distru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5040" indent="-272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Kora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Not content with the way God l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Lost sight of the fact that God did lead. </a:t>
            </a:r>
            <a:r>
              <a:rPr b="0" lang="en-US" sz="1600" spc="-1" strike="noStrike">
                <a:solidFill>
                  <a:srgbClr val="ffffff"/>
                </a:solidFill>
                <a:latin typeface="Liberation Sans Narrow"/>
              </a:rPr>
              <a:t>Patriarchs and Prophets, p. 40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The desire to be fir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5040" indent="-272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Aaron and Miri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Not being part of the counsel that called for the 70 elders. </a:t>
            </a:r>
            <a:r>
              <a:rPr b="0" lang="en-US" sz="1600" spc="-1" strike="noStrike">
                <a:solidFill>
                  <a:srgbClr val="ffffff"/>
                </a:solidFill>
                <a:latin typeface="Liberation Sans Narrow"/>
              </a:rPr>
              <a:t>Numbers 1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Fearing that others had more influence than th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The desire to be fir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5040" indent="-272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Jud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The desire to be fir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Being rebuked by Jes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  <a:ea typeface="Arial"/>
              </a:rPr>
              <a:t>Why Did Rebellions Come Up</a:t>
            </a:r>
            <a:br>
              <a:rPr sz="36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  <a:ea typeface="Arial"/>
              </a:rPr>
              <a:t>In Our Movement?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536840" y="1639800"/>
            <a:ext cx="6059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592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Complaining because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the message was destroying cherished concept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the message was rebuking s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of personal rebuk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not being part of all counse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not being invited to spea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not getting a specific posi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the (hidden) desire to be fir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6680" indent="-259200">
              <a:lnSpc>
                <a:spcPts val="1998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Following the message not with the heart, but only to get recognition in the chur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6680" indent="-2592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Complaining about God’s lead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6680" indent="-2592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Reports (gossip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6680" indent="-2592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Fear of being misle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6680" indent="-2592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Fear of being suppress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6680" indent="-2592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Mistru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  <a:ea typeface="Arial"/>
              </a:rPr>
              <a:t>Recognizing the Spirit of Rebellion in Me</a:t>
            </a:r>
            <a:r>
              <a:rPr b="0" lang="en-US" sz="3600" spc="-1" strike="noStrike">
                <a:solidFill>
                  <a:srgbClr val="dbbd71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  <a:ea typeface="Arial"/>
              </a:rPr>
              <a:t>(Recognizing Selfishness)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033200" y="1606680"/>
            <a:ext cx="6778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59200">
              <a:lnSpc>
                <a:spcPts val="1998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In order to prevent rebellion, I need healthy self-distrust. </a:t>
            </a:r>
            <a:r>
              <a:rPr b="0" lang="en-US" sz="1400" spc="-1" strike="noStrike">
                <a:solidFill>
                  <a:srgbClr val="ffffff"/>
                </a:solidFill>
                <a:latin typeface="Liberation Sans Narrow"/>
              </a:rPr>
              <a:t>1 Corinthians 10:1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6680" indent="-259200">
              <a:lnSpc>
                <a:spcPts val="1998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How do I feel when I think that something negative is said about m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6680" indent="-259200">
              <a:lnSpc>
                <a:spcPts val="1998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How do I feel when my work is put into question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6680" indent="-259200">
              <a:lnSpc>
                <a:spcPts val="1998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How do I feel when my contributions are not appreciate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as I think they ought to b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6680" indent="-259200">
              <a:lnSpc>
                <a:spcPts val="1998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What do I think when my habits and customs are put into question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6680" indent="-259200">
              <a:lnSpc>
                <a:spcPts val="1998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What do I think when I have to bear reproach from the worl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because of habits I adopted in obedience to the messag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6680" indent="-259200">
              <a:lnSpc>
                <a:spcPts val="1998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How do I feel when I am rebuked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6680" indent="-259200">
              <a:lnSpc>
                <a:spcPts val="1998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How do I feel towards people of authority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6680" indent="-259200">
              <a:lnSpc>
                <a:spcPts val="1998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What do I feel when I think that people take responsibility away from m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6680" indent="-259200">
              <a:lnSpc>
                <a:spcPts val="1998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What do I feel when I do not have a part in some counsels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6680" indent="-259200">
              <a:lnSpc>
                <a:spcPts val="1998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What do I think when I see weaknesses–or think I see weaknesses–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in those who are leading m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6680" indent="-259200">
              <a:lnSpc>
                <a:spcPts val="1998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What do I feel when I hear unfavorable reports about the leadership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6680" indent="-259200">
              <a:lnSpc>
                <a:spcPts val="1998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How do I relate to my parents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6680" indent="-259200">
              <a:lnSpc>
                <a:spcPts val="1998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How do I relate to authorities in the world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  <a:ea typeface="Arial"/>
              </a:rPr>
              <a:t>How Can We Escape the</a:t>
            </a:r>
            <a:br>
              <a:rPr sz="36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  <a:ea typeface="Arial"/>
              </a:rPr>
              <a:t>Spirit of Rebellion?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063800" y="1670040"/>
            <a:ext cx="69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iberation Sans Narrow"/>
              </a:rPr>
              <a:t>By receiving gospel order into our hea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35520" indent="-250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Remembering what God has done. </a:t>
            </a:r>
            <a:r>
              <a:rPr b="0" lang="en-US" sz="1600" spc="-1" strike="noStrike">
                <a:solidFill>
                  <a:srgbClr val="ffffff"/>
                </a:solidFill>
                <a:latin typeface="Liberation Sans Narrow"/>
              </a:rPr>
              <a:t>Testimonies to Ministers</a:t>
            </a:r>
            <a:r>
              <a:rPr b="0" i="1" lang="en-US" sz="1600" spc="-1" strike="noStrike">
                <a:solidFill>
                  <a:srgbClr val="ffffff"/>
                </a:solidFill>
                <a:latin typeface="Liberation Sans Narrow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Liberation Sans Narrow"/>
              </a:rPr>
              <a:t> p. 3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335520" indent="-250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Remembering that God is leading, which drives out the fea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of being mislead. </a:t>
            </a:r>
            <a:r>
              <a:rPr b="0" lang="en-US" sz="1600" spc="-1" strike="noStrike">
                <a:solidFill>
                  <a:srgbClr val="ffffff"/>
                </a:solidFill>
                <a:latin typeface="Liberation Sans Narrow"/>
              </a:rPr>
              <a:t>Revelation 1:12-20; The Acts of the Apostles, p. 586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335520" indent="-250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Searching my own heart for faults, not the hearts of oth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335520" indent="-250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Seeking correction from oth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335520" indent="-250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Suffering reproach with God’s people rather than becoming a criticiz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335520" indent="-250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Making Christ first, not making myself important. </a:t>
            </a:r>
            <a:r>
              <a:rPr b="0" lang="en-US" sz="1600" spc="-1" strike="noStrike">
                <a:solidFill>
                  <a:srgbClr val="ffffff"/>
                </a:solidFill>
                <a:latin typeface="Liberation Sans Narrow"/>
              </a:rPr>
              <a:t>Galatians 2:2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335520" indent="-250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Not harboring any suspicion of “secret counsels against me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335520" indent="-250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Dealing with mistakes and weaknesses in a brotherly mann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335520" indent="-250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Cherishing love, which drives out all fear of being suppress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335520" indent="-250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Not taking part in, or even listening to any gossi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335520" indent="-250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Rebuking the gossiper who talks of things he does not know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and makes presump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335520" indent="-250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Cherishing trust in God’s leading by rehearsing sacred history. 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Liberation Sans Narrow"/>
              </a:rPr>
              <a:t>Psalm 106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335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1T03:25:14Z</dcterms:created>
  <dc:creator>Andreas Dura</dc:creator>
  <dc:description/>
  <dc:language>en-US</dc:language>
  <cp:lastModifiedBy>Frank Zimmerman</cp:lastModifiedBy>
  <dcterms:modified xsi:type="dcterms:W3CDTF">2025-05-11T06:05:25Z</dcterms:modified>
  <cp:revision>19</cp:revision>
  <dc:subject/>
  <dc:title>Gospel order and rebellion</dc:title>
</cp:coreProperties>
</file>